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CA0F-AD0A-4F72-A38F-28DC6EE7B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F7AB-1867-41E0-855C-35BA94E16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608A-ED95-4303-A6C1-B8B7A690D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BE30-1708-40AB-9500-FE4AE7C92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C6E1-BA7D-4496-A7C7-EB2E0483E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E2E5-E947-4B51-8981-44730FD98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AD36-E98C-4A98-9949-6EEA5888D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935C-765A-4C71-B297-F82B5904D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0014-ED24-475A-8BF3-90A1D7DBC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AC8D-F5E6-4A7A-B293-982F9EBE5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8F5A-E8FD-489F-BC39-E61283A55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1119-D8D6-41B3-83AA-77A0ED616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6520" y="6248520"/>
            <a:ext cx="311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7217-911F-439D-8AA1-B9543EC67A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741888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94200"/>
            <a:ext cx="9080640" cy="36831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ell Ringer: </a:t>
            </a:r>
            <a:br>
              <a:rPr sz="4400"/>
            </a:b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2476080"/>
            <a:ext cx="9080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yesterday’s notes what do you believe is the most important concept in Buddhism to achieve Nirv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42536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11: HAN POST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12: DYNASTIES C-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41888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Shang (1700 BC - 1027 BC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st recorded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st Chinese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Developed writing, worked with bronze, created s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ed ancestors, used oracle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ng tyrant emperor overth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19520" cy="2114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Zhou (1027 BC - 250 BC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314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Longest last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roads, expanded t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Taoism and Confucianism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Han (202 BC - 221 AD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5436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Buddhism introduced, paper inv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Silk Roads developed-open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adic ra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ion, weak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e of bureau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Tang (618 AD - 907 AD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18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dhism supported, then op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Invention of movable print, porcelain, gun 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u Zetian - Only Empress in Chine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emperors, nomadic incursions, economic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 M</dc:creator>
  <dc:description/>
  <cp:keywords/>
  <dc:language>en-US</dc:language>
  <cp:lastModifiedBy>Tyler Daughtry</cp:lastModifiedBy>
  <dcterms:modified xsi:type="dcterms:W3CDTF">2013-11-08T14:59:21Z</dcterms:modified>
  <cp:revision>1</cp:revision>
  <dc:subject/>
  <dc:title>Chinese Dynasty Overview</dc:title>
</cp:coreProperties>
</file>